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84C-9B5A-44AF-A63D-195C0941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C0A-93A6-411A-8E88-6DC0BB87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AB8-7056-4C29-8264-0AFF2DC2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099-52E3-438B-B6B4-5EB79A00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4BF-99F4-4EAC-8E30-D810C7EE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B17-9E19-4F3A-AC29-49ED6FE0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8FE-2379-440F-9A90-4D25035D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093-B8DC-4080-8B2B-ED1C80DE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99B-6DD8-4A7B-9D41-4416B750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7CA-A781-422F-8BCD-01F7A86F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328-51A4-4B91-B2A0-BF945C2F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AD8-23B8-475E-90BD-F07269FB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B732-3B80-4BC8-93D1-840CA918B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hawaii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hawaii/" TargetMode="External"/><Relationship Id="rId4" Type="http://schemas.openxmlformats.org/officeDocument/2006/relationships/hyperlink" Target="http://www.law.ou.edu/ushistory/flags/haflag.gif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www.law.ou.edu/hist/flags/stflagalmo.shtml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000606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birds/printouts/Neneprintout.shtml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www.enchantedlearning.com/usa/states/hawaii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ff2a"/>
            </a:gs>
            <a:gs pos="100000">
              <a:srgbClr val="9afe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02920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rsten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March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1676520"/>
            <a:ext cx="49528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wai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4572000"/>
            <a:ext cx="2743200" cy="195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467480" y="1828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451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: Honolu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:1,275,1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Union: August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59 /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Ua mau ke ea o ka aina l ka pono (The life of the land is perpetuated in righte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: Aloha State / Paradise of the Pa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: Pua A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: Nene (Hawaiian go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: Hawaii Ponoi (Hawaii’s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behind name: place of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state that grows coffee is Hawa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’s alphabet has only 12 le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was formed from undersea volcanoes that erupted thousands of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5943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066680"/>
            <a:ext cx="471492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4495680"/>
            <a:ext cx="480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wai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1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hawai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State Flag of Hawai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1523880"/>
            <a:ext cx="3600360" cy="2400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257800" y="4343400"/>
            <a:ext cx="3657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versity of Oklahoma College of Law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 State Flag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aw.ou.edu/hist/flags/stflagalmo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waii is make up of many islands, and the capital, Honolulu, is on the island of Oa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Hawaii’s state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1295280" y="1066680"/>
            <a:ext cx="61722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95280" y="5334120"/>
            <a:ext cx="624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inbow Falls, Hilo H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00060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of a postcard from Hawaii. It shows a picture of Rainbow F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295280"/>
            <a:ext cx="2057400" cy="197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3733920"/>
            <a:ext cx="3124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wai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hawai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57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Hawaii’s state bird, the N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Picture of Item"/>
          <p:cNvPicPr/>
          <p:nvPr/>
        </p:nvPicPr>
        <p:blipFill>
          <a:blip r:embed="rId4"/>
          <a:stretch/>
        </p:blipFill>
        <p:spPr>
          <a:xfrm>
            <a:off x="5715000" y="1523880"/>
            <a:ext cx="110808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24280" y="3733920"/>
            <a:ext cx="3276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 Mal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http://www.jewelrymall.com/stones/cor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228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waii’s state gem/gemstone is black coral. This is a picture of a coral neck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7Z</dcterms:created>
  <dc:creator>install</dc:creator>
  <dc:description/>
  <dc:language>en-US</dc:language>
  <cp:lastModifiedBy>install</cp:lastModifiedBy>
  <dcterms:modified xsi:type="dcterms:W3CDTF">2012-04-16T13:11:13Z</dcterms:modified>
  <cp:revision>14</cp:revision>
  <dc:subject/>
  <dc:title>Slide 1</dc:title>
</cp:coreProperties>
</file>